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E123-42B9-4389-8627-CDCE8BAEA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ual picture: Livelihood story provides added value to all other information being brought to the forum (Analytical 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ive scenarios can be run using FEG spreadsheets etc……..avoiding….. HINDCAST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BF7-21E7-460E-A141-545F6DF6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A7E-34EB-43A5-BA0B-3202B292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732-3FEA-4551-9FCC-D910637F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2CD-D3C5-460C-8E26-1F7FF840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467-B66B-452D-BE49-EECBC65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0A5-EBF0-49B1-8117-AF0B6C1B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42D-40C5-4ED7-AB02-3CD30883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2BD-202F-4B09-84A9-226DACCD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5C8-208A-45EA-BBCB-E114F998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C4F-B358-4DFD-A0A8-753DF65B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85B-DDF0-48C9-B1CB-A95E1E0C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D43-9343-481D-BD0A-95DC8182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4335-77A4-465B-B912-7ED43CD7E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ental seminar on food security - Afric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.45 session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ch 2007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ole of information in improving responses to food insecurit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lid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Sharp SC-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880" y="-3665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lihood asset loss and recovery  (H, S, N, F,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38080" y="990720"/>
            <a:ext cx="7467480" cy="4723920"/>
            <a:chOff x="838080" y="990720"/>
            <a:chExt cx="7467480" cy="4723920"/>
          </a:xfrm>
        </p:grpSpPr>
        <p:grpSp>
          <p:nvGrpSpPr>
            <p:cNvPr id="52" name=""/>
            <p:cNvGrpSpPr/>
            <p:nvPr/>
          </p:nvGrpSpPr>
          <p:grpSpPr>
            <a:xfrm>
              <a:off x="2524320" y="1316160"/>
              <a:ext cx="4095000" cy="3909240"/>
              <a:chOff x="2524320" y="1316160"/>
              <a:chExt cx="4095000" cy="3909240"/>
            </a:xfrm>
          </p:grpSpPr>
          <p:sp>
            <p:nvSpPr>
              <p:cNvPr id="53" name=""/>
              <p:cNvSpPr/>
              <p:nvPr/>
            </p:nvSpPr>
            <p:spPr>
              <a:xfrm>
                <a:off x="4572000" y="3270960"/>
                <a:ext cx="2047320" cy="195444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2524320" y="1315800"/>
                <a:ext cx="2047680" cy="195444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608280" y="2457000"/>
              <a:ext cx="1566000" cy="65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78480" y="3271320"/>
              <a:ext cx="1565640" cy="65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990720"/>
              <a:ext cx="1565640" cy="65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37640" y="4900320"/>
              <a:ext cx="216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39920" y="5063040"/>
              <a:ext cx="1565640" cy="65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3434400"/>
              <a:ext cx="602280" cy="228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7692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99840" y="5943600"/>
            <a:ext cx="2971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2680" y="59799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ro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6324480"/>
            <a:ext cx="2743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791320"/>
            <a:ext cx="18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21160" y="5904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s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3520" y="6248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720" y="6248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38080" y="228600"/>
          <a:ext cx="8305920" cy="67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830592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010280" y="1676520"/>
            <a:ext cx="152424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3048120"/>
            <a:ext cx="14479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41760" y="20574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5080" y="34290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f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320" y="26668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ST C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28600" y="457200"/>
            <a:ext cx="8915040" cy="6400800"/>
            <a:chOff x="228600" y="457200"/>
            <a:chExt cx="8915040" cy="6400800"/>
          </a:xfrm>
        </p:grpSpPr>
        <p:sp>
          <p:nvSpPr>
            <p:cNvPr id="79" name=""/>
            <p:cNvSpPr/>
            <p:nvPr/>
          </p:nvSpPr>
          <p:spPr>
            <a:xfrm>
              <a:off x="228600" y="589392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at Gov &amp; LGA s               &lt;NGOs&gt;                            Donors and LRRD                &lt;NGOs&gt;                    WFP, ICRC, MS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800" y="457200"/>
              <a:ext cx="8799840" cy="320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hold Vulnera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800" y="777240"/>
              <a:ext cx="879984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Moderate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High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3800" y="1097280"/>
              <a:ext cx="8799840" cy="320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hold Decision-Ma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3800" y="1417680"/>
              <a:ext cx="879984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aximizing Opportunitie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   Minimizing Ris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4296240"/>
              <a:ext cx="8800200" cy="320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nor Respon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600" y="4616640"/>
              <a:ext cx="880020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Rehabilitation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itigation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Rel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" y="4936680"/>
              <a:ext cx="8800200" cy="320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525708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ustainable System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Protect Livelihood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ave L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5577120"/>
              <a:ext cx="8800200" cy="320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6217560"/>
              <a:ext cx="8800200" cy="32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dience Involv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653796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roader analysis with user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…..Higher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… Lower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Quantifying and Targeting Rel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04920" y="1752480"/>
            <a:ext cx="8533800" cy="2514600"/>
            <a:chOff x="304920" y="1752480"/>
            <a:chExt cx="8533800" cy="2514600"/>
          </a:xfrm>
        </p:grpSpPr>
        <p:grpSp>
          <p:nvGrpSpPr>
            <p:cNvPr id="92" name=""/>
            <p:cNvGrpSpPr/>
            <p:nvPr/>
          </p:nvGrpSpPr>
          <p:grpSpPr>
            <a:xfrm>
              <a:off x="2231640" y="1926000"/>
              <a:ext cx="4679640" cy="2080800"/>
              <a:chOff x="2231640" y="1926000"/>
              <a:chExt cx="4679640" cy="2080800"/>
            </a:xfrm>
          </p:grpSpPr>
          <p:sp>
            <p:nvSpPr>
              <p:cNvPr id="93" name=""/>
              <p:cNvSpPr/>
              <p:nvPr/>
            </p:nvSpPr>
            <p:spPr>
              <a:xfrm>
                <a:off x="4571640" y="2966400"/>
                <a:ext cx="2339640" cy="104040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2231640" y="1926000"/>
                <a:ext cx="2340000" cy="104040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470400" y="2532960"/>
              <a:ext cx="178956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36600" y="296640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175248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61200" y="3833640"/>
              <a:ext cx="247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49520" y="392004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0" y="3053160"/>
              <a:ext cx="687960" cy="12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Reversibility  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ff3300"/>
                  </a:solidFill>
                  <a:latin typeface="Arial"/>
                </a:rPr>
                <a:t>Phas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1 or 2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H="1" flipV="1">
            <a:off x="2209680" y="17521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38098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7800" y="2743200"/>
            <a:ext cx="2595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N.B. See Notes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ivelihood 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7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ntextual picture…improving/worseni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role of th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0"/>
            <a:ext cx="8001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ole of information in improving responses to food secur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04960" y="6400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6400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440" y="3505320"/>
            <a:ext cx="331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Phases    …. 3 ,            ……..  4,      ………………   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10480" y="37339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" y="3886200"/>
            <a:ext cx="42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PC Strategic response strategies only…. pos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580920" y="205740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28600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19160" y="209088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hich…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09880" y="20145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.Way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1280" y="391968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ias?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195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24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1000" y="6324480"/>
            <a:ext cx="2907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nd 2  Southern Suda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55840" y="6324480"/>
            <a:ext cx="22352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nd 2 for Malawi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943600"/>
            <a:ext cx="2743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Phase    classifi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2800" y="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ed for the Livelihood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.Contextual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30592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8436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37000" y="493560"/>
            <a:ext cx="17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PC princi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9440" y="5335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A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83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7432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CCSE/L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649116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OAL: Timely, cost effective and appropriate a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152280"/>
            <a:ext cx="26668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vari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219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2360" y="272556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1 and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5120" y="1611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classificatio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1480" y="2666880"/>
            <a:ext cx="236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, water …see IPC ma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97280" y="472428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 need for the contex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72400" y="33526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81680" y="5334120"/>
            <a:ext cx="91440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59040" y="548640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…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nd predi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4267080"/>
            <a:ext cx="27432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PC&lt; &gt;H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ompli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Comic Sans MS"/>
              </a:rPr>
              <a:t>principles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that pro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better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uring analy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uda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tle evidence that the present response is linked to analysis of any livelihoods inform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ee driven response….as opposed to CDR/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im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or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media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access emergency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for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9:24:47Z</dcterms:created>
  <dc:creator>bsharp</dc:creator>
  <dc:description/>
  <dc:language>en-US</dc:language>
  <cp:lastModifiedBy>user</cp:lastModifiedBy>
  <dcterms:modified xsi:type="dcterms:W3CDTF">2007-03-15T15:36:08Z</dcterms:modified>
  <cp:revision>38</cp:revision>
  <dc:subject/>
  <dc:title>Slide 1</dc:title>
</cp:coreProperties>
</file>